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DC0-4669-4287-BF7B-23DC2A06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C00-E733-4456-86FD-B9192895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A12-A4FB-4959-9558-BB4E20F9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C9E-38A5-4C71-BB77-0241575ED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CF65-0F28-4E59-89D5-286C5DBF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ABCB-F814-4637-876E-598608EE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7F98-4B4D-4A36-BD08-4D8A8BE5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9D90-101E-4F63-90D4-0EC86EC0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45A2-8F25-42FD-9495-13EEECB2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E73B-34E4-4574-B436-46325002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A1F6-8E13-4591-9CE0-125E61BB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4F6-FBE9-403D-B676-8998F728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E41D-652B-417C-99CA-9EE4B950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CBEA-7595-46CE-B11A-2C8E3D17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779E-2564-4040-8A99-E69265B5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935A-554D-43E4-97C6-8A316DF9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9BE0-2BEB-4DAD-9693-F90D6342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1A2-1880-4D73-965D-56EA21E1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9C8B-8D97-42D0-A992-EBA0A1CF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E60-4DEE-4DE7-8A6F-75C2303D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D4A-338F-440A-B072-518E31E5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E3D-7E22-421F-98FE-C6F94CDA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4BC-3091-42BF-B0B0-7E576F87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0A0-B22A-4728-8CC1-DDFA1147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B993-7677-4231-AE1E-37D531443E4E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BA11-C071-4A02-94AB-33BB95FCA372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6705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6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Century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4495680"/>
            <a:ext cx="4724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NEXT EX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1240" y="1599840"/>
            <a:ext cx="6248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roduce Web 2.0 tools through Cyber Café Professional Development Sess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 resources for deeper understanding of 21st century literac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courage a shift in thinking…”Headware before Hardware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intain momentum of forward thinking through virtual NING community and Teachers4Tech.com Blo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velop guidelines for teacher and student expect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aluate our plan and make necessary chang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pping our course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09 Timel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91404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ick Off 21st Century Learning Program at Faculty Meet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y - June: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 Week Cyber Café Professional Development Progra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ly - August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ggested “surfing” for summer, initiate NING communication, and assess Cyber Café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te August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ick-off “New School Year”, Outline teacher/student expectations, Set Goals for Implementing new tools, provide refresher courses if neede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ptember 28th - October 2nd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h Cohort Recruitment Wee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ctober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k with new “recruits” to plan for monthly Cyber Café program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vember - December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pare and plan cyber cafés and open exploration time for teache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NING communication will be ongoing for collaboration and evalu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00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000"/>
                            </p:stCondLst>
                            <p:childTnLst>
                              <p:par>
                                <p:cTn id="4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9000"/>
                            </p:stCondLst>
                            <p:childTnLst>
                              <p:par>
                                <p:cTn id="4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10 - What Comes Nex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6781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ick off new schedule for Professional Developm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n for parent education opportunit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e school websit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ster local and global collaboration within the educational communit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vide open exploration, “play time,” for teachers in the computer lab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 more efficient and effective communication within our school community through the use of technolog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tilize assessments and teacher feedback for further exploration and developm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5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6000"/>
                            </p:stCondLst>
                            <p:childTnLst>
                              <p:par>
                                <p:cTn id="5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59092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oute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2286000"/>
            <a:ext cx="5639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onduct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yber Café </a:t>
            </a:r>
            <a:br>
              <a:rPr sz="5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ional development opportuniti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838080"/>
            <a:ext cx="5638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uggest Summer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“Surfing”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5638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ommunicate Goals &amp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xpectations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066680"/>
            <a:ext cx="5638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ssess Progress and Ongoing Need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066680"/>
            <a:ext cx="6019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cruit New Cohort Member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12189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 Cohort Recruitment Pl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494160" y="2514600"/>
            <a:ext cx="1828800" cy="1676520"/>
            <a:chOff x="3494160" y="2514600"/>
            <a:chExt cx="1828800" cy="1676520"/>
          </a:xfrm>
        </p:grpSpPr>
        <p:sp>
          <p:nvSpPr>
            <p:cNvPr id="120" name=""/>
            <p:cNvSpPr/>
            <p:nvPr/>
          </p:nvSpPr>
          <p:spPr>
            <a:xfrm>
              <a:off x="3494160" y="3200400"/>
              <a:ext cx="609480" cy="609480"/>
            </a:xfrm>
            <a:prstGeom prst="ellipse">
              <a:avLst/>
            </a:prstGeom>
            <a:solidFill>
              <a:srgbClr val="ff22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22760" y="2514600"/>
              <a:ext cx="609480" cy="609480"/>
            </a:xfrm>
            <a:prstGeom prst="ellipse">
              <a:avLst/>
            </a:prstGeom>
            <a:solidFill>
              <a:srgbClr val="ff22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19720" y="2514600"/>
              <a:ext cx="609480" cy="609480"/>
            </a:xfrm>
            <a:prstGeom prst="ellipse">
              <a:avLst/>
            </a:prstGeom>
            <a:solidFill>
              <a:srgbClr val="ff22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3640" y="3581280"/>
              <a:ext cx="609480" cy="609840"/>
            </a:xfrm>
            <a:prstGeom prst="ellipse">
              <a:avLst/>
            </a:prstGeom>
            <a:solidFill>
              <a:srgbClr val="ff22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13120" y="3124080"/>
              <a:ext cx="609840" cy="609840"/>
            </a:xfrm>
            <a:prstGeom prst="ellipse">
              <a:avLst/>
            </a:prstGeom>
            <a:solidFill>
              <a:srgbClr val="ff226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25" name=""/>
          <p:cNvCxnSpPr>
            <a:stCxn id="126" idx="4"/>
            <a:endCxn id="126" idx="4"/>
          </p:cNvCxnSpPr>
          <p:nvPr/>
        </p:nvCxnSpPr>
        <p:spPr>
          <a:xfrm>
            <a:off x="2933280" y="40381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grpSp>
        <p:nvGrpSpPr>
          <p:cNvPr id="127" name=""/>
          <p:cNvGrpSpPr/>
          <p:nvPr/>
        </p:nvGrpSpPr>
        <p:grpSpPr>
          <a:xfrm>
            <a:off x="2666880" y="2133720"/>
            <a:ext cx="3657600" cy="2743200"/>
            <a:chOff x="2666880" y="2133720"/>
            <a:chExt cx="3657600" cy="2743200"/>
          </a:xfrm>
        </p:grpSpPr>
        <p:sp>
          <p:nvSpPr>
            <p:cNvPr id="128" name=""/>
            <p:cNvSpPr/>
            <p:nvPr/>
          </p:nvSpPr>
          <p:spPr>
            <a:xfrm>
              <a:off x="5181480" y="2133720"/>
              <a:ext cx="533520" cy="45720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3429000"/>
              <a:ext cx="533160" cy="45720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0" y="4419720"/>
              <a:ext cx="533520" cy="45720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6880" y="3581280"/>
              <a:ext cx="533520" cy="45720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71800" y="2133720"/>
              <a:ext cx="533520" cy="45720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2" name=""/>
            <p:cNvCxnSpPr>
              <a:stCxn id="120" idx="3"/>
              <a:endCxn id="126" idx="0"/>
            </p:cNvCxnSpPr>
            <p:nvPr/>
          </p:nvCxnSpPr>
          <p:spPr>
            <a:xfrm flipH="1" flipV="1">
              <a:off x="2933280" y="3580920"/>
              <a:ext cx="650160" cy="140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3" name=""/>
            <p:cNvCxnSpPr>
              <a:stCxn id="128" idx="4"/>
              <a:endCxn id="122" idx="7"/>
            </p:cNvCxnSpPr>
            <p:nvPr/>
          </p:nvCxnSpPr>
          <p:spPr>
            <a:xfrm flipH="1">
              <a:off x="4939560" y="2590560"/>
              <a:ext cx="508680" cy="13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4" name=""/>
            <p:cNvCxnSpPr>
              <a:stCxn id="129" idx="2"/>
            </p:cNvCxnSpPr>
            <p:nvPr/>
          </p:nvCxnSpPr>
          <p:spPr>
            <a:xfrm flipH="1">
              <a:off x="5181120" y="3657240"/>
              <a:ext cx="610560" cy="13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5" name=""/>
            <p:cNvCxnSpPr>
              <a:stCxn id="121" idx="1"/>
              <a:endCxn id="131" idx="5"/>
            </p:cNvCxnSpPr>
            <p:nvPr/>
          </p:nvCxnSpPr>
          <p:spPr>
            <a:xfrm flipH="1" flipV="1">
              <a:off x="3426840" y="2523240"/>
              <a:ext cx="384840" cy="802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6" name=""/>
            <p:cNvCxnSpPr>
              <a:stCxn id="130" idx="1"/>
              <a:endCxn id="123" idx="5"/>
            </p:cNvCxnSpPr>
            <p:nvPr/>
          </p:nvCxnSpPr>
          <p:spPr>
            <a:xfrm flipH="1" flipV="1">
              <a:off x="4624200" y="4101480"/>
              <a:ext cx="25920" cy="384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grpSp>
        <p:nvGrpSpPr>
          <p:cNvPr id="137" name=""/>
          <p:cNvGrpSpPr/>
          <p:nvPr/>
        </p:nvGrpSpPr>
        <p:grpSpPr>
          <a:xfrm>
            <a:off x="1905120" y="1841400"/>
            <a:ext cx="5257800" cy="3416400"/>
            <a:chOff x="1905120" y="1841400"/>
            <a:chExt cx="5257800" cy="3416400"/>
          </a:xfrm>
        </p:grpSpPr>
        <p:sp>
          <p:nvSpPr>
            <p:cNvPr id="138" name=""/>
            <p:cNvSpPr/>
            <p:nvPr/>
          </p:nvSpPr>
          <p:spPr>
            <a:xfrm>
              <a:off x="1905120" y="3898800"/>
              <a:ext cx="533160" cy="457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67280" y="1841400"/>
              <a:ext cx="533520" cy="457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29400" y="3657600"/>
              <a:ext cx="533520" cy="457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57800" y="4800600"/>
              <a:ext cx="533520" cy="457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09680" y="1994040"/>
              <a:ext cx="533520" cy="4572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3" name=""/>
            <p:cNvCxnSpPr>
              <a:stCxn id="138" idx="7"/>
              <a:endCxn id="126" idx="3"/>
            </p:cNvCxnSpPr>
            <p:nvPr/>
          </p:nvCxnSpPr>
          <p:spPr>
            <a:xfrm>
              <a:off x="2360160" y="3965400"/>
              <a:ext cx="384840" cy="72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44" name=""/>
            <p:cNvCxnSpPr>
              <a:stCxn id="131" idx="2"/>
              <a:endCxn id="142" idx="6"/>
            </p:cNvCxnSpPr>
            <p:nvPr/>
          </p:nvCxnSpPr>
          <p:spPr>
            <a:xfrm flipH="1" flipV="1">
              <a:off x="2742480" y="2222280"/>
              <a:ext cx="229320" cy="140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45" name=""/>
            <p:cNvCxnSpPr>
              <a:stCxn id="139" idx="3"/>
              <a:endCxn id="128" idx="6"/>
            </p:cNvCxnSpPr>
            <p:nvPr/>
          </p:nvCxnSpPr>
          <p:spPr>
            <a:xfrm flipH="1">
              <a:off x="5714280" y="2232000"/>
              <a:ext cx="230760" cy="131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46" name=""/>
            <p:cNvCxnSpPr/>
            <p:nvPr/>
          </p:nvCxnSpPr>
          <p:spPr>
            <a:xfrm>
              <a:off x="6057720" y="3898440"/>
              <a:ext cx="5720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47" name=""/>
            <p:cNvCxnSpPr>
              <a:stCxn id="141" idx="0"/>
              <a:endCxn id="130" idx="5"/>
            </p:cNvCxnSpPr>
            <p:nvPr/>
          </p:nvCxnSpPr>
          <p:spPr>
            <a:xfrm flipH="1">
              <a:off x="5027400" y="4800600"/>
              <a:ext cx="497520" cy="10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grpSp>
        <p:nvGrpSpPr>
          <p:cNvPr id="148" name=""/>
          <p:cNvGrpSpPr/>
          <p:nvPr/>
        </p:nvGrpSpPr>
        <p:grpSpPr>
          <a:xfrm>
            <a:off x="990720" y="4830840"/>
            <a:ext cx="685800" cy="276480"/>
            <a:chOff x="990720" y="4830840"/>
            <a:chExt cx="685800" cy="276480"/>
          </a:xfrm>
        </p:grpSpPr>
        <p:sp>
          <p:nvSpPr>
            <p:cNvPr id="149" name=""/>
            <p:cNvSpPr/>
            <p:nvPr/>
          </p:nvSpPr>
          <p:spPr>
            <a:xfrm>
              <a:off x="990720" y="4876920"/>
              <a:ext cx="533160" cy="152280"/>
            </a:xfrm>
            <a:prstGeom prst="flowChartTerminator">
              <a:avLst/>
            </a:prstGeom>
            <a:solidFill>
              <a:srgbClr val="ff2262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90720" y="4830840"/>
              <a:ext cx="6858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990720" y="5440320"/>
            <a:ext cx="685800" cy="276480"/>
            <a:chOff x="990720" y="5440320"/>
            <a:chExt cx="685800" cy="276480"/>
          </a:xfrm>
        </p:grpSpPr>
        <p:sp>
          <p:nvSpPr>
            <p:cNvPr id="152" name=""/>
            <p:cNvSpPr/>
            <p:nvPr/>
          </p:nvSpPr>
          <p:spPr>
            <a:xfrm>
              <a:off x="990720" y="5486400"/>
              <a:ext cx="533160" cy="152280"/>
            </a:xfrm>
            <a:prstGeom prst="flowChartTerminator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0720" y="5440320"/>
              <a:ext cx="6858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90720" y="5135400"/>
            <a:ext cx="685800" cy="276480"/>
            <a:chOff x="990720" y="5135400"/>
            <a:chExt cx="685800" cy="276480"/>
          </a:xfrm>
        </p:grpSpPr>
        <p:sp>
          <p:nvSpPr>
            <p:cNvPr id="155" name=""/>
            <p:cNvSpPr/>
            <p:nvPr/>
          </p:nvSpPr>
          <p:spPr>
            <a:xfrm>
              <a:off x="990720" y="5181480"/>
              <a:ext cx="533160" cy="152640"/>
            </a:xfrm>
            <a:prstGeom prst="flowChartTerminator">
              <a:avLst/>
            </a:prstGeom>
            <a:solidFill>
              <a:srgbClr val="3366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90720" y="5135400"/>
              <a:ext cx="6858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OAD CREW: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6186240" cy="29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ALERIE WHIT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IX KOKKOR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ESLIE JON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NDY EBBOT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EVE FLITCRAF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1066680"/>
            <a:ext cx="5638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ot NING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1066680"/>
            <a:ext cx="5638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et NING!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385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385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38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38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90360" y="2666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43000" y="251460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Fasten Your Seatbelts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1676520"/>
            <a:ext cx="60958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Where were we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Where are we now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Where are we going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6782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5"/>
                </a:solidFill>
                <a:latin typeface="Arial"/>
              </a:rPr>
              <a:t>Where were we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4480" y="2209320"/>
            <a:ext cx="3390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Keyboar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Word Proces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Educational Softw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Internet Resear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AlphaSmar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95680" y="2209320"/>
            <a:ext cx="3391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Stock Market Gam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Graphing Calcula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Text to Speech Softw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505"/>
                </a:solidFill>
                <a:latin typeface="Arial"/>
              </a:rPr>
              <a:t>Garage B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65240" y="2065320"/>
            <a:ext cx="20365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Google Do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Tracks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Treasure Hu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eb Que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Podca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Sk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Virtual Field Tr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990720"/>
            <a:ext cx="6781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5"/>
                </a:solidFill>
                <a:latin typeface="Verdana"/>
              </a:rPr>
              <a:t>Where are we n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0800" y="2057040"/>
            <a:ext cx="2095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SmartBoar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PowerPoi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FaceBoo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Blo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Audio Book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iTu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0400" y="205704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Google Ear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Delicio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Wik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Graphic Desig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Virtual Lear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5"/>
                </a:solidFill>
                <a:latin typeface="Arial"/>
              </a:rPr>
              <a:t>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500"/>
                            </p:stCondLst>
                            <p:childTnLst>
                              <p:par>
                                <p:cTn id="2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500"/>
                            </p:stCondLst>
                            <p:childTnLst>
                              <p:par>
                                <p:cTn id="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500"/>
                            </p:stCondLst>
                            <p:childTnLst>
                              <p:par>
                                <p:cTn id="2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1295280" y="0"/>
            <a:ext cx="12725280" cy="8616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6782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50505"/>
                </a:solidFill>
                <a:latin typeface="Verdana"/>
              </a:rPr>
              <a:t>Where are we going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0800" y="2209320"/>
            <a:ext cx="3390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5"/>
                </a:solidFill>
                <a:latin typeface="Arial"/>
              </a:rPr>
              <a:t>Sharing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5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5"/>
                </a:solidFill>
                <a:latin typeface="Arial"/>
              </a:rPr>
              <a:t>Grow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5680" y="2209320"/>
            <a:ext cx="3391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5"/>
                </a:solidFill>
                <a:latin typeface="Arial"/>
              </a:rPr>
              <a:t>Integra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5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5050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50505"/>
                </a:solidFill>
                <a:latin typeface="Arial"/>
              </a:rPr>
              <a:t>Innova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85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38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9" dur="38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1" dur="38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85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385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385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385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385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385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385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385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38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385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385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385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385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385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385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385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385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385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385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385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270600">
            <a:off x="-152280" y="-533520"/>
            <a:ext cx="9794880" cy="7848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438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50505"/>
                </a:solidFill>
                <a:latin typeface="Arial"/>
              </a:rPr>
              <a:t>HOW DO WE GET THERE?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ilot’s Miss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68580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ssion of The Pilot School is to uncover the unique educational challenges of each student, and to give each child the specific </a:t>
            </a:r>
            <a:r>
              <a:rPr b="0" lang="en-US" sz="2400" spc="-1" strike="noStrike">
                <a:solidFill>
                  <a:srgbClr val="2bff12"/>
                </a:solidFill>
                <a:latin typeface="Arial"/>
              </a:rPr>
              <a:t>developmental</a:t>
            </a:r>
            <a:r>
              <a:rPr b="0" lang="en-US" sz="2400" spc="-1" strike="noStrike">
                <a:solidFill>
                  <a:srgbClr val="ff226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ff12"/>
                </a:solidFill>
                <a:latin typeface="Arial"/>
              </a:rPr>
              <a:t>too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guidance, and attention needed to learn, achieve and ultimately, to feel comfortable and </a:t>
            </a:r>
            <a:r>
              <a:rPr b="0" lang="en-US" sz="2400" spc="-1" strike="noStrike">
                <a:solidFill>
                  <a:srgbClr val="2bff12"/>
                </a:solidFill>
                <a:latin typeface="Arial"/>
              </a:rPr>
              <a:t>be success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academic environment that is </a:t>
            </a:r>
            <a:r>
              <a:rPr b="0" lang="en-US" sz="2400" spc="-1" strike="noStrike">
                <a:solidFill>
                  <a:srgbClr val="2bff12"/>
                </a:solidFill>
                <a:latin typeface="Arial"/>
              </a:rPr>
              <a:t>mo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ff12"/>
                </a:solidFill>
                <a:latin typeface="Arial"/>
              </a:rPr>
              <a:t>appropri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47920" y="15235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</a:t>
            </a:r>
            <a:r>
              <a:rPr b="0" lang="en-US" sz="3200" spc="-1" strike="noStrike">
                <a:solidFill>
                  <a:srgbClr val="2bff12"/>
                </a:solidFill>
                <a:latin typeface="Arial"/>
              </a:rPr>
              <a:t>developmental</a:t>
            </a:r>
            <a:r>
              <a:rPr b="0" lang="en-US" sz="3200" spc="-1" strike="noStrike">
                <a:solidFill>
                  <a:srgbClr val="ff226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bff12"/>
                </a:solidFill>
                <a:latin typeface="Arial"/>
              </a:rPr>
              <a:t>too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will maximize </a:t>
            </a:r>
            <a:r>
              <a:rPr b="0" lang="en-US" sz="3200" spc="-1" strike="noStrike">
                <a:solidFill>
                  <a:srgbClr val="2bff12"/>
                </a:solidFill>
                <a:latin typeface="Arial"/>
              </a:rPr>
              <a:t>succ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be </a:t>
            </a:r>
            <a:r>
              <a:rPr b="0" lang="en-US" sz="3200" spc="-1" strike="noStrike">
                <a:solidFill>
                  <a:srgbClr val="2bff12"/>
                </a:solidFill>
                <a:latin typeface="Arial"/>
              </a:rPr>
              <a:t>m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bff12"/>
                </a:solidFill>
                <a:latin typeface="Arial"/>
              </a:rPr>
              <a:t>appropria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chieving individual goa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1440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ech Cohort’s Miss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7:02:36Z</dcterms:created>
  <dc:creator>Steve Flitcraft</dc:creator>
  <dc:description/>
  <dc:language>en-US</dc:language>
  <cp:lastModifiedBy>Steve Flitcraft</cp:lastModifiedBy>
  <cp:lastPrinted>2009-03-30T15:28:22Z</cp:lastPrinted>
  <dcterms:modified xsi:type="dcterms:W3CDTF">2009-04-29T19:03:07Z</dcterms:modified>
  <cp:revision>11</cp:revision>
  <dc:subject/>
  <dc:title>21st Century Learning     NEXT EXIT</dc:title>
</cp:coreProperties>
</file>